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448-1B70-4579-91B5-9ED2046B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17A-67DA-4CC1-AB98-0863FD5B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DA0-F2CE-464B-BC7F-EC6FB46C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8C7-5D25-40FF-A75E-4813C359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2BA8-856A-4496-9B5B-D9AB7B31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2F34-6C33-438E-A069-E2392FB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BE0D-10A6-49E0-B472-11BBBEE6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466A-3552-4582-80FD-E3F573BE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1007-02A5-4D4B-99AD-02641EA8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47F7-B977-4B08-8AF0-65B6DB34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8759-623D-4FCF-B37C-352F253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847-C1ED-48FC-A86F-65E58218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97F2-7B11-4262-B8B6-9C2BB137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4555-E009-42B8-9729-27A7D306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0F94-2442-4FD7-ADC9-263492D2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F37B-32C9-4844-B37C-9B625DB0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3A41-3C3A-4A01-9A2D-FF2A8039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762B-C67F-46D5-A616-DACFA4DE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C33A-0C6E-4178-B04F-85C91B62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5510-0B2C-422C-BC22-9609EB87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3B62-4F0F-4B6D-ADA4-9A850D5D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59AE-E352-4B77-921B-E945110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022-687D-4B3B-9343-2FBA444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3816-8755-4AD7-8629-B818CCF9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35DF-47FD-4787-9D91-1767E6F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4CB0-626B-49C4-BEBF-968B144C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8872-F938-4E65-B92E-2201F57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96D3-5027-47C8-94DD-C6F6957B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B669-032F-4F48-BB8F-68D027F0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87C0-8B61-45F5-B84E-CE050342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C424-FFB8-424D-B218-D26EB858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36D0-FAC5-4B3F-AA12-B0EC6687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30CA-70E6-48AD-9F9C-405774C0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FB4-8C96-492B-A8B1-E187322A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6E40F-9682-4578-931C-36F8AAC3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524E2-F5A0-4A6F-9392-5BC2942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B6B4-311C-4D69-8B03-8373B728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EDD40-0042-4E01-B717-B747376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EEE4-2EA8-4040-98F6-7071867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29C9-B91A-4FFA-AE86-E000FBF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8EE46-A8AC-42EC-93CA-063E45BE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84CD-C7BD-4677-A9CC-2EEEDA74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AC05-13C4-42F6-8AB2-A9E8EEF8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906D-5ECC-4B03-B5AF-FF004385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0EA-00EA-49A6-8DCA-1231ACC2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8B8F2-1391-4627-AA88-9EAE10E8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EAEB-1419-4C5B-82CE-59EE513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B68C0-06BB-4A36-84C7-AB806F60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938BF-B3A7-4C70-8BE7-D9FD82C8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499DD-B2FC-4303-8565-0C2190B8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6B28E-26AC-4A38-994E-FA97BF9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9007C-7DB4-4EA7-95CE-C9DA3529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8175A-B01A-4E3F-8862-188E0AD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B054-5180-4D0F-ACD8-3B9FD8EF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C0A4-AB2A-4872-A379-8862C9A4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DD3-2D89-4A96-A95E-269B655B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5870E-3C16-4F80-9A6C-7DDB031F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F32A-C3D1-41BB-9302-A0782891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BEAFA-1531-4513-9F10-21AFE7A9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6C67-0608-4199-A147-3DBEE4E8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639B-E623-49B4-A356-B67A9F97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AF334-A30F-4EB6-82F1-E26C8DCD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BFA78-772A-4F96-B23B-63963A70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3183A-5C8F-414C-8695-DC1D99BF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5C4EB-5BD2-4581-AEBF-644F063D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8630-1ABC-4318-BA55-2820A72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1E0-550E-49F0-8F86-300CEF61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10A65-870C-4D5E-954C-03453789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45369-538D-4927-8727-B4058FD2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0C661-DB4E-44FF-9423-B8494D0C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F5883-2793-46BD-9C44-518F6D79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2D6E4-4187-487F-B32D-45F28284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93F73-48EE-400D-80CA-32853772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0CBAD-A659-4467-8685-75D9EDAC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EFE38-65A3-4993-84A1-4A77A266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3003F-123F-43B5-8B32-9CECDBD6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45408-BA48-4EAF-A6D2-BB373D8E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7B5-7DED-44BC-A727-A504F3C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A8330-E07A-4B5D-9C40-E4F6B264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6E55-9F74-4F76-8459-163F1A3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62C2A-7FDA-4D32-990D-A6C5B636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409A3-48AD-49E7-95F0-D84001B7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C4E64-DD55-4531-9A89-A6FA52B3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DB2E5-3A8A-43AF-8DDD-E92E1816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261BE-C195-49D9-A7C7-0963D1A4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D4E41-6DF4-4925-AE50-BE0F7434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0E00B-5016-4C4E-BC28-4F9D32B2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79C27-4DD6-4C8F-84EE-685C5C29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A1E-BCE4-40CB-88D0-38F0FDA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CAF51-234E-4269-B423-3F68989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830C5-CE12-4917-9033-1C46248F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01D2B-E709-4472-B263-41C89B0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7D67-2CAC-412A-B848-99F5643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C9AA9-4E49-4523-9205-15E424F9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BF8B3-A79A-409F-9295-841E7645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CBC6-D865-4AEE-98B2-69C131ED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8FA0-9466-4E5E-9BF6-830A465A91CD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4B63-3CB9-4B3A-AF02-1299A4C62B03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E457-5266-4876-8860-4C2016483E9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148C-188B-458C-9277-92C28BD0C9A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9C05-2FD3-4744-8A64-B06AB419409B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055B-35A5-4979-963D-D5ABAFDC395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48B6-C9CE-486D-BEFA-E93852FC718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A18C-279C-4422-A8ED-0D5AAEABEC8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B5A2-2992-4B2B-96AB-3D0CDA2DBF4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189B-5BCC-4A73-A18B-93C32A7FCED6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A699-7B3D-4B1C-BF4C-960499E41746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DABF-FA12-4826-AC0C-6372F2404DF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E3D-0A82-4565-A3E2-FEE91233E367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A903-F312-42F2-9648-AE40F346134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DF6E-9059-4722-BDFD-0E7B10090C32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E505-14A0-424A-84DE-7D57C0A1E04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162240" y="420372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44440" y="3295800"/>
            <a:ext cx="18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Unit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806480" y="3125880"/>
            <a:ext cx="7337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ave you rea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reasure Islan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y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2921040" y="4756320"/>
            <a:ext cx="4660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ection A 1a-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244440" y="3997440"/>
            <a:ext cx="851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/>
          <p:cNvSpPr/>
          <p:nvPr/>
        </p:nvSpPr>
        <p:spPr>
          <a:xfrm>
            <a:off x="550800" y="209520"/>
            <a:ext cx="8593200" cy="15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2a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Listen. Who has read these boo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Circle the names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reasure Isl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Mark / Tina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live Twi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Mark / Tina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binson Cruso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Mark / Tina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m Sawy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Mark / Tina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7236000" y="1916280"/>
            <a:ext cx="115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7093080" y="3068640"/>
            <a:ext cx="115092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6"/>
          <p:cNvSpPr/>
          <p:nvPr/>
        </p:nvSpPr>
        <p:spPr>
          <a:xfrm>
            <a:off x="5580000" y="3068640"/>
            <a:ext cx="130644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7236000" y="4260960"/>
            <a:ext cx="108108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8"/>
          <p:cNvSpPr/>
          <p:nvPr/>
        </p:nvSpPr>
        <p:spPr>
          <a:xfrm>
            <a:off x="5724360" y="4260960"/>
            <a:ext cx="116208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7020000" y="5445000"/>
            <a:ext cx="116208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Section A 2a.mp3" descr="Section A 2a"/>
          <p:cNvPicPr/>
          <p:nvPr/>
        </p:nvPicPr>
        <p:blipFill>
          <a:blip r:embed="rId1"/>
          <a:stretch/>
        </p:blipFill>
        <p:spPr>
          <a:xfrm>
            <a:off x="6045120" y="915840"/>
            <a:ext cx="841320" cy="841680"/>
          </a:xfrm>
          <a:prstGeom prst="rect">
            <a:avLst/>
          </a:prstGeom>
          <a:ln w="0">
            <a:noFill/>
          </a:ln>
        </p:spPr>
      </p:pic>
      <p:sp>
        <p:nvSpPr>
          <p:cNvPr id="448" name="Oval 11"/>
          <p:cNvSpPr/>
          <p:nvPr/>
        </p:nvSpPr>
        <p:spPr>
          <a:xfrm>
            <a:off x="1322280" y="1079640"/>
            <a:ext cx="1398600" cy="599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53499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/>
          <p:cNvSpPr/>
          <p:nvPr/>
        </p:nvSpPr>
        <p:spPr>
          <a:xfrm>
            <a:off x="682560" y="171360"/>
            <a:ext cx="8067600" cy="126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2b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Listen again and write T for tr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nd F for false.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69920" y="1431720"/>
            <a:ext cx="8748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Oliver Twis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is about a boy who goes out to sea and finds an island full of treasures.  (    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Robinson Cruso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is a classic.      (    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 Tina thinks that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reasure Island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is a fantastic book.                             (    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om Sawyer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is about a boy who lives in the United Kingdom.                   (    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7234200" y="2368440"/>
            <a:ext cx="503280" cy="752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48520" y="3067200"/>
            <a:ext cx="637920" cy="752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716360" y="4373640"/>
            <a:ext cx="505080" cy="752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5745240" y="5765760"/>
            <a:ext cx="503280" cy="752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Section A 2b.mp3" descr="Section A 2b"/>
          <p:cNvPicPr/>
          <p:nvPr/>
        </p:nvPicPr>
        <p:blipFill>
          <a:blip r:embed="rId1"/>
          <a:stretch/>
        </p:blipFill>
        <p:spPr>
          <a:xfrm>
            <a:off x="6880320" y="630360"/>
            <a:ext cx="80172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53238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AutoShape 2"/>
          <p:cNvSpPr/>
          <p:nvPr/>
        </p:nvSpPr>
        <p:spPr>
          <a:xfrm>
            <a:off x="1117440" y="182520"/>
            <a:ext cx="7458120" cy="1522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c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Use the information in 2a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b to talk about the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"/>
          <p:cNvGrpSpPr/>
          <p:nvPr/>
        </p:nvGrpSpPr>
        <p:grpSpPr>
          <a:xfrm>
            <a:off x="473040" y="1967040"/>
            <a:ext cx="3735360" cy="4839840"/>
            <a:chOff x="473040" y="1967040"/>
            <a:chExt cx="3735360" cy="4839840"/>
          </a:xfrm>
        </p:grpSpPr>
        <p:pic>
          <p:nvPicPr>
            <p:cNvPr id="458" name="Picture 4" descr="图片111"/>
            <p:cNvPicPr/>
            <p:nvPr/>
          </p:nvPicPr>
          <p:blipFill>
            <a:blip r:embed="rId1"/>
            <a:srcRect l="0" t="0" r="51489" b="0"/>
            <a:stretch/>
          </p:blipFill>
          <p:spPr>
            <a:xfrm>
              <a:off x="1781280" y="3799440"/>
              <a:ext cx="2427120" cy="300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473040" y="1967040"/>
              <a:ext cx="3448800" cy="1586880"/>
            </a:xfrm>
            <a:prstGeom prst="wedgeRoundRectCallout">
              <a:avLst>
                <a:gd name="adj1" fmla="val -2254"/>
                <a:gd name="adj2" fmla="val 79851"/>
                <a:gd name="adj3" fmla="val 16667"/>
              </a:avLst>
            </a:prstGeom>
            <a:solidFill>
              <a:srgbClr val="ffff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Has Tina rea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Treasure Island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6"/>
          <p:cNvGrpSpPr/>
          <p:nvPr/>
        </p:nvGrpSpPr>
        <p:grpSpPr>
          <a:xfrm>
            <a:off x="4624560" y="1967040"/>
            <a:ext cx="4170240" cy="4839840"/>
            <a:chOff x="4624560" y="1967040"/>
            <a:chExt cx="4170240" cy="4839840"/>
          </a:xfrm>
        </p:grpSpPr>
        <p:pic>
          <p:nvPicPr>
            <p:cNvPr id="461" name="Picture 7" descr="图片111"/>
            <p:cNvPicPr/>
            <p:nvPr/>
          </p:nvPicPr>
          <p:blipFill>
            <a:blip r:embed="rId2"/>
            <a:srcRect l="49311" t="0" r="0" b="0"/>
            <a:stretch/>
          </p:blipFill>
          <p:spPr>
            <a:xfrm>
              <a:off x="5768640" y="3799440"/>
              <a:ext cx="2535840" cy="300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AutoShape 8"/>
            <p:cNvSpPr/>
            <p:nvPr/>
          </p:nvSpPr>
          <p:spPr>
            <a:xfrm>
              <a:off x="4624560" y="1967040"/>
              <a:ext cx="4170240" cy="1586880"/>
            </a:xfrm>
            <a:prstGeom prst="wedgeRoundRectCallout">
              <a:avLst>
                <a:gd name="adj1" fmla="val -5680"/>
                <a:gd name="adj2" fmla="val 75731"/>
                <a:gd name="adj3" fmla="val 16667"/>
              </a:avLst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Yes, she has. She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thinks it’s fantasti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2"/>
          <p:cNvSpPr/>
          <p:nvPr/>
        </p:nvSpPr>
        <p:spPr>
          <a:xfrm>
            <a:off x="1117440" y="182520"/>
            <a:ext cx="7458120" cy="1522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c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Use the information in 2a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b to talk about the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09440" y="2303640"/>
            <a:ext cx="4539960" cy="4503600"/>
            <a:chOff x="109440" y="2303640"/>
            <a:chExt cx="4539960" cy="4503600"/>
          </a:xfrm>
        </p:grpSpPr>
        <p:pic>
          <p:nvPicPr>
            <p:cNvPr id="465" name="Picture 4" descr="图片111"/>
            <p:cNvPicPr/>
            <p:nvPr/>
          </p:nvPicPr>
          <p:blipFill>
            <a:blip r:embed="rId1"/>
            <a:srcRect l="0" t="0" r="50983" b="0"/>
            <a:stretch/>
          </p:blipFill>
          <p:spPr>
            <a:xfrm>
              <a:off x="2197080" y="3800160"/>
              <a:ext cx="2452320" cy="300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AutoShape 5"/>
            <p:cNvSpPr/>
            <p:nvPr/>
          </p:nvSpPr>
          <p:spPr>
            <a:xfrm>
              <a:off x="109440" y="2303640"/>
              <a:ext cx="3363480" cy="1496520"/>
            </a:xfrm>
            <a:prstGeom prst="wedgeEllipseCallout">
              <a:avLst>
                <a:gd name="adj1" fmla="val 25893"/>
                <a:gd name="adj2" fmla="val 70833"/>
              </a:avLst>
            </a:prstGeom>
            <a:solidFill>
              <a:srgbClr val="ffff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’s it about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730840" y="2027160"/>
            <a:ext cx="3362400" cy="4779720"/>
            <a:chOff x="5730840" y="2027160"/>
            <a:chExt cx="3362400" cy="4779720"/>
          </a:xfrm>
        </p:grpSpPr>
        <p:pic>
          <p:nvPicPr>
            <p:cNvPr id="468" name="Picture 7" descr="图片111"/>
            <p:cNvPicPr/>
            <p:nvPr/>
          </p:nvPicPr>
          <p:blipFill>
            <a:blip r:embed="rId2"/>
            <a:srcRect l="49052" t="0" r="0" b="0"/>
            <a:stretch/>
          </p:blipFill>
          <p:spPr>
            <a:xfrm>
              <a:off x="5730840" y="3799800"/>
              <a:ext cx="2548080" cy="300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AutoShape 8"/>
            <p:cNvSpPr/>
            <p:nvPr/>
          </p:nvSpPr>
          <p:spPr>
            <a:xfrm>
              <a:off x="5730840" y="2027160"/>
              <a:ext cx="3362400" cy="1496520"/>
            </a:xfrm>
            <a:prstGeom prst="wedgeEllipseCallout">
              <a:avLst>
                <a:gd name="adj1" fmla="val -30990"/>
                <a:gd name="adj2" fmla="val 76050"/>
              </a:avLst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It’s about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368360" y="352440"/>
            <a:ext cx="2933640" cy="44956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4284720" y="352440"/>
            <a:ext cx="3190680" cy="45086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900000" y="4941720"/>
            <a:ext cx="7344000" cy="12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  <a:ea typeface="宋体"/>
              </a:rPr>
              <a:t>Have you ever read these books? What’s it abou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804960" y="247680"/>
            <a:ext cx="6753240" cy="1236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d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Role-play the convers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493560" y="1744560"/>
            <a:ext cx="80409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Amy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eve, have you decided yet which b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write about for English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ve 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es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ttle Wom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 I've al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nished reading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Amy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w, you're fast! What's it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v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It's about four sisters growing up.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as really good, so I couldn't put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wn. Which book did you cho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8078760" y="247680"/>
            <a:ext cx="911160" cy="1236600"/>
          </a:xfrm>
          <a:custGeom>
            <a:avLst/>
            <a:gdLst>
              <a:gd name="textAreaLeft" fmla="*/ 59040 w 911160"/>
              <a:gd name="textAreaRight" fmla="*/ 852120 w 911160"/>
              <a:gd name="textAreaTop" fmla="*/ 59040 h 1236600"/>
              <a:gd name="textAreaBottom" fmla="*/ 1177560 h 1236600"/>
            </a:gdLst>
            <a:ahLst/>
            <a:rect l="textAreaLeft" t="textAreaTop" r="textAreaRight" b="textAreaBottom"/>
            <a:pathLst>
              <a:path w="21600" h="29312">
                <a:moveTo>
                  <a:pt x="0" y="0"/>
                </a:moveTo>
                <a:lnTo>
                  <a:pt x="21600" y="0"/>
                </a:lnTo>
                <a:lnTo>
                  <a:pt x="21600" y="29312"/>
                </a:lnTo>
                <a:lnTo>
                  <a:pt x="0" y="29312"/>
                </a:lnTo>
                <a:close/>
              </a:path>
              <a:path fill="lightenLess" w="21600" h="293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12">
                <a:moveTo>
                  <a:pt x="21600" y="0"/>
                </a:moveTo>
                <a:lnTo>
                  <a:pt x="21600" y="29312"/>
                </a:lnTo>
                <a:lnTo>
                  <a:pt x="20200" y="27912"/>
                </a:lnTo>
                <a:lnTo>
                  <a:pt x="20200" y="1400"/>
                </a:lnTo>
                <a:close/>
              </a:path>
              <a:path fill="darkenLess" w="21600" h="29312">
                <a:moveTo>
                  <a:pt x="21600" y="29312"/>
                </a:moveTo>
                <a:lnTo>
                  <a:pt x="0" y="29312"/>
                </a:lnTo>
                <a:lnTo>
                  <a:pt x="1400" y="27912"/>
                </a:lnTo>
                <a:lnTo>
                  <a:pt x="20200" y="27912"/>
                </a:lnTo>
                <a:close/>
              </a:path>
              <a:path fill="lighten" w="21600" h="29312">
                <a:moveTo>
                  <a:pt x="0" y="293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12"/>
                </a:lnTo>
                <a:close/>
              </a:path>
              <a:path fill="darken" w="21600" h="29312">
                <a:moveTo>
                  <a:pt x="3794" y="7649"/>
                </a:moveTo>
                <a:lnTo>
                  <a:pt x="17806" y="14656"/>
                </a:lnTo>
                <a:lnTo>
                  <a:pt x="3794" y="21662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1017720" y="314280"/>
            <a:ext cx="6892920" cy="1235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d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Role-play the convers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493560" y="1744560"/>
            <a:ext cx="8377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Amy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cho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easure Isl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but I haven'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nished reading it yet. I'm only on page 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ve 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ve you at least read the back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ok to see what it's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Amy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es, I have. It looks inter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v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You should hurry up. The book repor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ue in two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Amy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es, I know. I'll read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289080" y="1341360"/>
            <a:ext cx="8675640" cy="470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liver Twi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bout a boy who goes out to sea and finds an islan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full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treasu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full of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满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；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大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rea i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full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beautiful l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nd rive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区域有大量美丽的湖泊和河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4265640" y="369720"/>
            <a:ext cx="4373640" cy="971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2"/>
          <p:cNvSpPr/>
          <p:nvPr/>
        </p:nvSpPr>
        <p:spPr>
          <a:xfrm>
            <a:off x="4387680" y="136440"/>
            <a:ext cx="4373640" cy="971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57040" y="1062000"/>
            <a:ext cx="867420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Have you at least read the back of the book to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what it’s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453960" y="2128680"/>
            <a:ext cx="7989840" cy="970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此句中的动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e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表示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通过查看、打听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弄清、了解；查看、发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信息或事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)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作这种用法时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e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常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ow, what, whe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等引导的宾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453960" y="3876840"/>
            <a:ext cx="8307360" cy="2531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81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agreed to go with me 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ee w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rong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他同意跟我去了解一下毛病出在哪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of all, we need to take some time 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e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t works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，我们需要花些时间了解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它是如何运作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95280" y="1533600"/>
            <a:ext cx="7416720" cy="752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You shoul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hurry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736560" y="2419200"/>
            <a:ext cx="8066160" cy="272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81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hurry up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赶快；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急忙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Hurry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 or we cannot get to the railway station on time.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快些，否则我们不能按时赶到火车站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/>
          <p:cNvSpPr/>
          <p:nvPr/>
        </p:nvSpPr>
        <p:spPr>
          <a:xfrm>
            <a:off x="4429080" y="165240"/>
            <a:ext cx="4373640" cy="971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8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3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u=3031825110,805159649&amp;fm=90&amp;gp=0"/>
          <p:cNvPicPr/>
          <p:nvPr/>
        </p:nvPicPr>
        <p:blipFill>
          <a:blip r:embed="rId1"/>
          <a:srcRect l="0" t="0" r="0" b="8353"/>
          <a:stretch/>
        </p:blipFill>
        <p:spPr>
          <a:xfrm>
            <a:off x="614520" y="517680"/>
            <a:ext cx="4197240" cy="28796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"/>
          <p:cNvSpPr/>
          <p:nvPr/>
        </p:nvSpPr>
        <p:spPr>
          <a:xfrm>
            <a:off x="5086440" y="1258920"/>
            <a:ext cx="346212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treasure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n.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珠宝，财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u=4275716173,2813778171&amp;fm=23&amp;gp=0"/>
          <p:cNvPicPr/>
          <p:nvPr/>
        </p:nvPicPr>
        <p:blipFill>
          <a:blip r:embed="rId2"/>
          <a:stretch/>
        </p:blipFill>
        <p:spPr>
          <a:xfrm>
            <a:off x="4546440" y="3397320"/>
            <a:ext cx="4365720" cy="3282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345960" y="4197240"/>
            <a:ext cx="34610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island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503280" y="1125360"/>
            <a:ext cx="8316720" cy="2068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4240" indent="-12542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 Steve: …The book report i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du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w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54240" indent="-12542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ee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54240" indent="-12542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my: Yes, I know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647640" y="3357720"/>
            <a:ext cx="8136000" cy="2068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)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ue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dj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.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预定；预期；预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后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引出预期的时间、地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，还常 常构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短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e due (to do something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e due (for something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4410000" y="154080"/>
            <a:ext cx="4373640" cy="971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95280" y="1290600"/>
            <a:ext cx="8317080" cy="491832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ur plane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d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at Shangh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ngqiao International Airport at 12:3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的飞机预计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降落在上海虹桥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际机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os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is due to st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school in Jan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罗丝一月份就要开始上学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You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re due 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a medical exa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的身体检查预定在下个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3"/>
          <p:cNvSpPr/>
          <p:nvPr/>
        </p:nvSpPr>
        <p:spPr>
          <a:xfrm>
            <a:off x="4338720" y="318960"/>
            <a:ext cx="4373640" cy="971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500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539640" y="1179360"/>
            <a:ext cx="8010720" cy="170208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 know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表示说话人对所谈的观点、内容已了解，无需多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相当于汉语中“我早知道了；我全都了解”这样的意思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区别于许多日常交际场合中表示“我明白了；我知道了；我懂了”的用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39640" y="3951360"/>
            <a:ext cx="772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1360" indent="-13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It’s already very late. You should get som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1360" indent="-13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经很晚了，你应该休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1360" indent="-13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Well,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I k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an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1360" indent="-13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对，我是知道的。谢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4427640" y="208080"/>
            <a:ext cx="4373640" cy="971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6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20560" y="1587600"/>
            <a:ext cx="810576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注意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当我们获知对方提供的信息后，常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 see.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表示“我知道了；我明白了；我懂了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: He lives in the countryside b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ks in the city during the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他住在乡下，但工作日在城里上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: Oh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I s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哦，我知道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592520" y="318960"/>
            <a:ext cx="4373640" cy="971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5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矩形 6" descr=""/>
          <p:cNvPicPr/>
          <p:nvPr/>
        </p:nvPicPr>
        <p:blipFill>
          <a:blip r:embed="rId1"/>
          <a:stretch/>
        </p:blipFill>
        <p:spPr>
          <a:xfrm>
            <a:off x="3108240" y="484200"/>
            <a:ext cx="3381480" cy="8604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3"/>
          <p:cNvSpPr/>
          <p:nvPr/>
        </p:nvSpPr>
        <p:spPr>
          <a:xfrm>
            <a:off x="622440" y="1344600"/>
            <a:ext cx="83232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项选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The bottle is _____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. filled of                    B. ful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 filled of                    D. ful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I ____ the book, and I know what 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. read; on              B. am reading;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 have read; about       D. had read;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4008600" y="194004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628640" y="3643200"/>
            <a:ext cx="9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矩形 6" descr=""/>
          <p:cNvPicPr/>
          <p:nvPr/>
        </p:nvPicPr>
        <p:blipFill>
          <a:blip r:embed="rId1"/>
          <a:stretch/>
        </p:blipFill>
        <p:spPr>
          <a:xfrm>
            <a:off x="3108240" y="484200"/>
            <a:ext cx="3435480" cy="12081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3"/>
          <p:cNvSpPr/>
          <p:nvPr/>
        </p:nvSpPr>
        <p:spPr>
          <a:xfrm>
            <a:off x="480960" y="1523880"/>
            <a:ext cx="831528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He has already finished his homework.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为否定句和一般疑问句及否定回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e ______ finished his homework 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_ he finished his homework 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, h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181160" y="3306600"/>
            <a:ext cx="17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asn'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219800" y="3306600"/>
            <a:ext cx="10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596880" y="421632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7219800" y="4140360"/>
            <a:ext cx="10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768320" y="5046840"/>
            <a:ext cx="15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asn'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4340160" y="307800"/>
            <a:ext cx="45514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page 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n.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页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面，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136440" y="4737240"/>
            <a:ext cx="5315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classic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.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名著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经典著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u=241474398,4009943398&amp;fm=23&amp;gp=0"/>
          <p:cNvPicPr/>
          <p:nvPr/>
        </p:nvPicPr>
        <p:blipFill>
          <a:blip r:embed="rId1"/>
          <a:stretch/>
        </p:blipFill>
        <p:spPr>
          <a:xfrm>
            <a:off x="687240" y="441360"/>
            <a:ext cx="3211560" cy="4295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u=4038769625,3832732134&amp;fm=23&amp;gp=0"/>
          <p:cNvPicPr/>
          <p:nvPr/>
        </p:nvPicPr>
        <p:blipFill>
          <a:blip r:embed="rId2"/>
          <a:srcRect l="0" t="0" r="8819" b="0"/>
          <a:stretch/>
        </p:blipFill>
        <p:spPr>
          <a:xfrm>
            <a:off x="4703760" y="2349360"/>
            <a:ext cx="418788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5051520" y="1038240"/>
            <a:ext cx="34621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hurry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v.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匆忙，赶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30040" y="3857760"/>
            <a:ext cx="45990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due 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adj.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预定的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到期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u=3085454113,1617591440&amp;fm=23&amp;gp=0"/>
          <p:cNvPicPr/>
          <p:nvPr/>
        </p:nvPicPr>
        <p:blipFill>
          <a:blip r:embed="rId1"/>
          <a:srcRect l="0" t="0" r="0" b="21313"/>
          <a:stretch/>
        </p:blipFill>
        <p:spPr>
          <a:xfrm>
            <a:off x="492120" y="601560"/>
            <a:ext cx="4336920" cy="2960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u=1986143581,32753044&amp;fm=90&amp;gp=0"/>
          <p:cNvPicPr/>
          <p:nvPr/>
        </p:nvPicPr>
        <p:blipFill>
          <a:blip r:embed="rId2"/>
          <a:srcRect l="0" t="0" r="45670" b="8829"/>
          <a:stretch/>
        </p:blipFill>
        <p:spPr>
          <a:xfrm>
            <a:off x="5051520" y="3186000"/>
            <a:ext cx="3695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AutoShape 2"/>
          <p:cNvSpPr/>
          <p:nvPr/>
        </p:nvSpPr>
        <p:spPr>
          <a:xfrm>
            <a:off x="696960" y="210960"/>
            <a:ext cx="6981840" cy="126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ave you read these books?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Check (√) the ones you k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u8A01"/>
          <p:cNvPicPr/>
          <p:nvPr/>
        </p:nvPicPr>
        <p:blipFill>
          <a:blip r:embed="rId1"/>
          <a:srcRect l="26334" t="26003" r="26890" b="26003"/>
          <a:stretch/>
        </p:blipFill>
        <p:spPr>
          <a:xfrm>
            <a:off x="258840" y="1654200"/>
            <a:ext cx="2862360" cy="2378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u8A02"/>
          <p:cNvPicPr/>
          <p:nvPr/>
        </p:nvPicPr>
        <p:blipFill>
          <a:blip r:embed="rId2"/>
          <a:srcRect l="27181" t="24874" r="25753" b="24482"/>
          <a:stretch/>
        </p:blipFill>
        <p:spPr>
          <a:xfrm>
            <a:off x="3121200" y="1654200"/>
            <a:ext cx="2947680" cy="2378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u8A03"/>
          <p:cNvPicPr/>
          <p:nvPr/>
        </p:nvPicPr>
        <p:blipFill>
          <a:blip r:embed="rId3"/>
          <a:srcRect l="27043" t="27519" r="26044" b="22762"/>
          <a:stretch/>
        </p:blipFill>
        <p:spPr>
          <a:xfrm>
            <a:off x="6068880" y="1654200"/>
            <a:ext cx="2832120" cy="23781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u8A04"/>
          <p:cNvPicPr/>
          <p:nvPr/>
        </p:nvPicPr>
        <p:blipFill>
          <a:blip r:embed="rId4"/>
          <a:srcRect l="25767" t="24297" r="26044" b="24482"/>
          <a:stretch/>
        </p:blipFill>
        <p:spPr>
          <a:xfrm>
            <a:off x="258840" y="4032360"/>
            <a:ext cx="2862360" cy="2479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u8A05"/>
          <p:cNvPicPr/>
          <p:nvPr/>
        </p:nvPicPr>
        <p:blipFill>
          <a:blip r:embed="rId5"/>
          <a:srcRect l="28612" t="27146" r="28751" b="25039"/>
          <a:stretch/>
        </p:blipFill>
        <p:spPr>
          <a:xfrm>
            <a:off x="3122640" y="4032360"/>
            <a:ext cx="2946240" cy="2479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u8A06"/>
          <p:cNvPicPr/>
          <p:nvPr/>
        </p:nvPicPr>
        <p:blipFill>
          <a:blip r:embed="rId6"/>
          <a:srcRect l="25905" t="24113" r="25611" b="24482"/>
          <a:stretch/>
        </p:blipFill>
        <p:spPr>
          <a:xfrm>
            <a:off x="6068880" y="4032360"/>
            <a:ext cx="2814840" cy="247968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9"/>
          <p:cNvSpPr/>
          <p:nvPr/>
        </p:nvSpPr>
        <p:spPr>
          <a:xfrm>
            <a:off x="7816680" y="210960"/>
            <a:ext cx="1067040" cy="126072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260720"/>
              <a:gd name="textAreaBottom" fmla="*/ 1191600 h 1260720"/>
            </a:gdLst>
            <a:ahLst/>
            <a:rect l="textAreaLeft" t="textAreaTop" r="textAreaRight" b="textAreaBottom"/>
            <a:pathLst>
              <a:path w="21600" h="25519">
                <a:moveTo>
                  <a:pt x="0" y="0"/>
                </a:moveTo>
                <a:lnTo>
                  <a:pt x="21600" y="0"/>
                </a:lnTo>
                <a:lnTo>
                  <a:pt x="21600" y="25519"/>
                </a:lnTo>
                <a:lnTo>
                  <a:pt x="0" y="25519"/>
                </a:lnTo>
                <a:close/>
              </a:path>
              <a:path fill="lightenLess" w="21600" h="25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9">
                <a:moveTo>
                  <a:pt x="21600" y="0"/>
                </a:moveTo>
                <a:lnTo>
                  <a:pt x="21600" y="25519"/>
                </a:lnTo>
                <a:lnTo>
                  <a:pt x="20200" y="24119"/>
                </a:lnTo>
                <a:lnTo>
                  <a:pt x="20200" y="1400"/>
                </a:lnTo>
                <a:close/>
              </a:path>
              <a:path fill="darkenLess" w="21600" h="25519">
                <a:moveTo>
                  <a:pt x="21600" y="25519"/>
                </a:moveTo>
                <a:lnTo>
                  <a:pt x="0" y="25519"/>
                </a:lnTo>
                <a:lnTo>
                  <a:pt x="1400" y="24119"/>
                </a:lnTo>
                <a:lnTo>
                  <a:pt x="20200" y="24119"/>
                </a:lnTo>
                <a:close/>
              </a:path>
              <a:path fill="lighten" w="21600" h="25519">
                <a:moveTo>
                  <a:pt x="0" y="25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9"/>
                </a:lnTo>
                <a:close/>
              </a:path>
              <a:path fill="darken" w="21600" h="25519">
                <a:moveTo>
                  <a:pt x="3794" y="5753"/>
                </a:moveTo>
                <a:lnTo>
                  <a:pt x="17806" y="12760"/>
                </a:lnTo>
                <a:lnTo>
                  <a:pt x="3794" y="19766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utoShape 2"/>
          <p:cNvSpPr/>
          <p:nvPr/>
        </p:nvSpPr>
        <p:spPr>
          <a:xfrm>
            <a:off x="981000" y="210960"/>
            <a:ext cx="6993000" cy="126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ave you heard of these books?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Check (√) the ones you k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52320" y="2136600"/>
            <a:ext cx="8229600" cy="35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___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lice in Wonderland  ___ Little Women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___ Treasure Island          ___ Olive Twist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___ Robinson Crusoe        ___ Tom Sawyer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358920" y="1442880"/>
          <a:ext cx="8567640" cy="4948560"/>
        </p:xfrm>
        <a:graphic>
          <a:graphicData uri="http://schemas.openxmlformats.org/drawingml/2006/table">
            <a:tbl>
              <a:tblPr/>
              <a:tblGrid>
                <a:gridCol w="1657080"/>
                <a:gridCol w="1274760"/>
                <a:gridCol w="2854440"/>
                <a:gridCol w="278136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Boo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Tit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Na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Have they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read i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What do they think of i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Nic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Jud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Sand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A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Kat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Har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41"/>
          <p:cNvSpPr/>
          <p:nvPr/>
        </p:nvSpPr>
        <p:spPr>
          <a:xfrm>
            <a:off x="4068720" y="2597040"/>
            <a:ext cx="1224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2"/>
          <p:cNvSpPr/>
          <p:nvPr/>
        </p:nvSpPr>
        <p:spPr>
          <a:xfrm>
            <a:off x="4068720" y="3176640"/>
            <a:ext cx="15843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3"/>
          <p:cNvSpPr/>
          <p:nvPr/>
        </p:nvSpPr>
        <p:spPr>
          <a:xfrm>
            <a:off x="4140360" y="4508640"/>
            <a:ext cx="1008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4"/>
          <p:cNvSpPr/>
          <p:nvPr/>
        </p:nvSpPr>
        <p:spPr>
          <a:xfrm>
            <a:off x="4140360" y="3830760"/>
            <a:ext cx="718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5"/>
          <p:cNvSpPr/>
          <p:nvPr/>
        </p:nvSpPr>
        <p:spPr>
          <a:xfrm>
            <a:off x="4067280" y="5156280"/>
            <a:ext cx="1009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6"/>
          <p:cNvSpPr/>
          <p:nvPr/>
        </p:nvSpPr>
        <p:spPr>
          <a:xfrm>
            <a:off x="4140360" y="5735520"/>
            <a:ext cx="502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7"/>
          <p:cNvSpPr/>
          <p:nvPr/>
        </p:nvSpPr>
        <p:spPr>
          <a:xfrm>
            <a:off x="6372360" y="3176640"/>
            <a:ext cx="1800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xc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6157800" y="4508640"/>
            <a:ext cx="2305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9"/>
          <p:cNvSpPr/>
          <p:nvPr/>
        </p:nvSpPr>
        <p:spPr>
          <a:xfrm>
            <a:off x="6372360" y="5086440"/>
            <a:ext cx="2090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fant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0"/>
          <p:cNvSpPr/>
          <p:nvPr/>
        </p:nvSpPr>
        <p:spPr>
          <a:xfrm>
            <a:off x="358920" y="2597040"/>
            <a:ext cx="172692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reasure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1"/>
          <p:cNvSpPr/>
          <p:nvPr/>
        </p:nvSpPr>
        <p:spPr>
          <a:xfrm>
            <a:off x="358920" y="3851280"/>
            <a:ext cx="244764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Robinson Crus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2"/>
          <p:cNvSpPr/>
          <p:nvPr/>
        </p:nvSpPr>
        <p:spPr>
          <a:xfrm>
            <a:off x="358920" y="5445000"/>
            <a:ext cx="180000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Little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3"/>
          <p:cNvSpPr/>
          <p:nvPr/>
        </p:nvSpPr>
        <p:spPr>
          <a:xfrm>
            <a:off x="749160" y="212760"/>
            <a:ext cx="7116840" cy="1077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1b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Listen and complete the ch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Section A 1b.mp3" descr="Section A 1b"/>
          <p:cNvPicPr/>
          <p:nvPr/>
        </p:nvPicPr>
        <p:blipFill>
          <a:blip r:embed="rId1"/>
          <a:stretch/>
        </p:blipFill>
        <p:spPr>
          <a:xfrm>
            <a:off x="8026560" y="415800"/>
            <a:ext cx="873000" cy="87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65698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2"/>
          <p:cNvSpPr/>
          <p:nvPr/>
        </p:nvSpPr>
        <p:spPr>
          <a:xfrm>
            <a:off x="793800" y="184320"/>
            <a:ext cx="5387760" cy="192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0152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c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Practice the 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Then talk about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books in 1a.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137120" y="2109960"/>
            <a:ext cx="4852800" cy="4700160"/>
            <a:chOff x="4137120" y="2109960"/>
            <a:chExt cx="4852800" cy="4700160"/>
          </a:xfrm>
        </p:grpSpPr>
        <p:pic>
          <p:nvPicPr>
            <p:cNvPr id="427" name="Picture 4" descr="u=4286494639,2785542421&amp;fm=23&amp;gp=0"/>
            <p:cNvPicPr/>
            <p:nvPr/>
          </p:nvPicPr>
          <p:blipFill>
            <a:blip r:embed="rId1"/>
            <a:srcRect l="51894" t="0" r="0" b="0"/>
            <a:stretch/>
          </p:blipFill>
          <p:spPr>
            <a:xfrm>
              <a:off x="4137120" y="3631680"/>
              <a:ext cx="2232720" cy="31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AutoShape 5"/>
            <p:cNvSpPr/>
            <p:nvPr/>
          </p:nvSpPr>
          <p:spPr>
            <a:xfrm>
              <a:off x="5619240" y="2109960"/>
              <a:ext cx="3370680" cy="1521720"/>
            </a:xfrm>
            <a:prstGeom prst="wedgeRoundRectCallout">
              <a:avLst>
                <a:gd name="adj1" fmla="val -37962"/>
                <a:gd name="adj2" fmla="val 72402"/>
                <a:gd name="adj3" fmla="val 16667"/>
              </a:avLst>
            </a:prstGeom>
            <a:solidFill>
              <a:srgbClr val="ffff99"/>
            </a:solidFill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ave you rea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ittle Women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ye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231840" y="2368440"/>
            <a:ext cx="3708360" cy="4442040"/>
            <a:chOff x="231840" y="2368440"/>
            <a:chExt cx="3708360" cy="4442040"/>
          </a:xfrm>
        </p:grpSpPr>
        <p:pic>
          <p:nvPicPr>
            <p:cNvPr id="430" name="Picture 7" descr="u=4286494639,2785542421&amp;fm=23&amp;gp=0"/>
            <p:cNvPicPr/>
            <p:nvPr/>
          </p:nvPicPr>
          <p:blipFill>
            <a:blip r:embed="rId2"/>
            <a:srcRect l="0" t="0" r="47347" b="0"/>
            <a:stretch/>
          </p:blipFill>
          <p:spPr>
            <a:xfrm>
              <a:off x="1495800" y="3630960"/>
              <a:ext cx="2444400" cy="31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AutoShape 8"/>
            <p:cNvSpPr/>
            <p:nvPr/>
          </p:nvSpPr>
          <p:spPr>
            <a:xfrm>
              <a:off x="231840" y="2368440"/>
              <a:ext cx="2863440" cy="1444680"/>
            </a:xfrm>
            <a:prstGeom prst="wedgeRoundRectCallout">
              <a:avLst>
                <a:gd name="adj1" fmla="val -1018"/>
                <a:gd name="adj2" fmla="val 69078"/>
                <a:gd name="adj3" fmla="val 16667"/>
              </a:avLst>
            </a:prstGeom>
            <a:solidFill>
              <a:srgbClr val="ffcc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o, I haven’t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ave you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3"/>
          <p:cNvGrpSpPr/>
          <p:nvPr/>
        </p:nvGrpSpPr>
        <p:grpSpPr>
          <a:xfrm>
            <a:off x="4527720" y="1125360"/>
            <a:ext cx="4306680" cy="5013360"/>
            <a:chOff x="4527720" y="1125360"/>
            <a:chExt cx="4306680" cy="5013360"/>
          </a:xfrm>
        </p:grpSpPr>
        <p:pic>
          <p:nvPicPr>
            <p:cNvPr id="433" name="Picture 4" descr="u=4286494639,2785542421&amp;fm=23&amp;gp=0"/>
            <p:cNvPicPr/>
            <p:nvPr/>
          </p:nvPicPr>
          <p:blipFill>
            <a:blip r:embed="rId1"/>
            <a:srcRect l="49072" t="0" r="0" b="0"/>
            <a:stretch/>
          </p:blipFill>
          <p:spPr>
            <a:xfrm>
              <a:off x="4527720" y="2959920"/>
              <a:ext cx="2363040" cy="31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AutoShape 5"/>
            <p:cNvSpPr/>
            <p:nvPr/>
          </p:nvSpPr>
          <p:spPr>
            <a:xfrm>
              <a:off x="5217120" y="1125360"/>
              <a:ext cx="3617280" cy="14839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ccffcc"/>
            </a:solidFill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es, I have alread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ad i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6"/>
          <p:cNvGrpSpPr/>
          <p:nvPr/>
        </p:nvGrpSpPr>
        <p:grpSpPr>
          <a:xfrm>
            <a:off x="131760" y="2394000"/>
            <a:ext cx="4395600" cy="3425760"/>
            <a:chOff x="131760" y="2394000"/>
            <a:chExt cx="4395600" cy="3425760"/>
          </a:xfrm>
        </p:grpSpPr>
        <p:pic>
          <p:nvPicPr>
            <p:cNvPr id="436" name="Picture 7" descr="u=4286494639,2785542421&amp;fm=23&amp;gp=0"/>
            <p:cNvPicPr/>
            <p:nvPr/>
          </p:nvPicPr>
          <p:blipFill>
            <a:blip r:embed="rId2"/>
            <a:srcRect l="0" t="0" r="51290" b="0"/>
            <a:stretch/>
          </p:blipFill>
          <p:spPr>
            <a:xfrm>
              <a:off x="2266560" y="2640960"/>
              <a:ext cx="2260800" cy="31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AutoShape 8"/>
            <p:cNvSpPr/>
            <p:nvPr/>
          </p:nvSpPr>
          <p:spPr>
            <a:xfrm>
              <a:off x="131760" y="2394000"/>
              <a:ext cx="1914480" cy="1339920"/>
            </a:xfrm>
            <a:prstGeom prst="wedgeRoundRectCallout">
              <a:avLst>
                <a:gd name="adj1" fmla="val 45291"/>
                <a:gd name="adj2" fmla="val 70000"/>
                <a:gd name="adj3" fmla="val 16667"/>
              </a:avLst>
            </a:prstGeom>
            <a:solidFill>
              <a:srgbClr val="ffff99"/>
            </a:solidFill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’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t lik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AutoShape 9"/>
          <p:cNvSpPr/>
          <p:nvPr/>
        </p:nvSpPr>
        <p:spPr>
          <a:xfrm>
            <a:off x="1743120" y="946080"/>
            <a:ext cx="3173400" cy="1209600"/>
          </a:xfrm>
          <a:prstGeom prst="cloudCallout">
            <a:avLst>
              <a:gd name="adj1" fmla="val 50560"/>
              <a:gd name="adj2" fmla="val 101180"/>
            </a:avLst>
          </a:prstGeom>
          <a:solidFill>
            <a:srgbClr val="ff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fanta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3:24:21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